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C71-DA44-4EC4-8473-1AF36B70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2927-8EF9-4D93-9AAF-0B543307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A08-5E23-497A-B198-88AD8D06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805-F714-4DE1-A0AF-EB8096A1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887-E382-47D8-8E60-422F025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596-236B-42E4-B3AD-D68680E5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EB9-1699-4314-9BC3-95D4BA3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7D5-C230-4319-8D31-3591B93F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704-0A74-4C2F-B5EE-032CEFC2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3AA-5471-4E23-8DC9-BEB94E9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84E-2DE9-4833-A604-DC6B83F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FE5-6DC8-42EB-8E65-48C101F8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7D79-2F21-4FE5-A4FD-D7AC30DD9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11:11:53Z</dcterms:modified>
  <cp:revision>4</cp:revision>
  <dc:subject/>
  <dc:title>Текстовий редактор</dc:title>
</cp:coreProperties>
</file>